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D37-EA9C-409A-AFBD-2A9AE9F9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C6F-09C3-43B4-9E80-52BD288F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1DA-4277-427C-9D68-4ECFE32E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1BB-BC07-498D-A4BF-4455938A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98C-C19D-4198-B8F1-4D3AB04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5CD-7235-46D4-A875-8899CCED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66C-CC38-48BD-9533-96FC758C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F23-B89C-4A25-8F19-3211449C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9E1-A8A2-43E2-A623-3662FE70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A46-F827-4584-B81F-B286046F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740-9F1E-4DF9-A046-FA03276D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818-0FE0-4B20-883B-1B5BDCDF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D956-3186-4770-BC0A-D8BFFD498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873" t="24002" r="21251" b="10000"/>
          <a:stretch/>
        </p:blipFill>
        <p:spPr>
          <a:xfrm>
            <a:off x="152280" y="1066680"/>
            <a:ext cx="876312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8640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761760" y="2666880"/>
            <a:ext cx="106668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114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i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876560" y="38098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2743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647960" y="297180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571640" y="228600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3581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267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00240" y="44956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76560" y="51814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52280"/>
            <a:ext cx="7772400" cy="9169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need A comparison for each element of an  entered list  which depending on the first two letters' can let me send them to one of the sub list ,example if “P” &amp; “B” than put it in the second sub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09480" y="762120"/>
            <a:ext cx="327672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4:39:18Z</dcterms:created>
  <dc:creator>za04499</dc:creator>
  <dc:description/>
  <dc:language>en-US</dc:language>
  <cp:lastModifiedBy>za04499</cp:lastModifiedBy>
  <dcterms:modified xsi:type="dcterms:W3CDTF">2009-03-06T07:04:02Z</dcterms:modified>
  <cp:revision>3</cp:revision>
  <dc:subject/>
  <dc:title>Slide 1</dc:title>
</cp:coreProperties>
</file>